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6587-8384-45A7-9EF7-92CC42D8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935-A281-48B0-AB7B-49364838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351-1B67-4794-A944-61369131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813-50DB-4421-A3E5-2A174F0C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756-007A-478B-B02B-DC44AC96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031-BC75-4757-AE79-92DB729C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BDE-0D23-4D65-9CCC-9D22C86D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F40-7A31-4A08-BEEC-81A972DA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AC1-5FEC-4A92-AC4C-49C282DE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8B3-27C6-48A1-9CDE-2EE040B2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B9F-CC3D-4F28-8FF3-44DB31DB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6A7-D044-4D62-8684-ABB624AE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DFC4-1339-487D-BF77-35836E1EEBA9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28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Present Perfect 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276360" cy="365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343400" y="220968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e autumn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has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already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arr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257800" y="51055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How do you  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3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Note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1120" y="1066680"/>
            <a:ext cx="4952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as been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ondon.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w he is here. He can tell you wonderful stories about Lon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as been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ondon for two weeks.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 is still in Lon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’s Peter?  H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as gone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ondon.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 is in Italy or on his way to Lon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j0160514[1]"/>
          <p:cNvPicPr/>
          <p:nvPr/>
        </p:nvPicPr>
        <p:blipFill>
          <a:blip r:embed="rId1"/>
          <a:stretch/>
        </p:blipFill>
        <p:spPr>
          <a:xfrm>
            <a:off x="152280" y="1066680"/>
            <a:ext cx="396252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Bar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00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3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3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3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ORM: have / has + pa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ffirm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ave s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ilm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as s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ilm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rog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Ha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ilm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ilm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g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     They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ave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n’t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s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ilm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as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n’t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s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ilm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nt ev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t is used to describe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recent events without a definite 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 idea of time or place in the speaker’s mind makes the event recent. A time expression may emphasize recentness: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just, recently, l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4572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00200" y="1295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ses of the 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j0343223[1]"/>
          <p:cNvPicPr/>
          <p:nvPr/>
        </p:nvPicPr>
        <p:blipFill>
          <a:blip r:embed="rId1"/>
          <a:stretch/>
        </p:blipFill>
        <p:spPr>
          <a:xfrm>
            <a:off x="5715000" y="3962520"/>
            <a:ext cx="1752480" cy="2133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685800" y="461160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are they so happ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hav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ju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won a prize so  they are really p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randomBa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500"/>
                            </p:stCondLst>
                            <p:childTnLst>
                              <p:par>
                                <p:cTn id="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Present Perfect Ten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sonal experie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t is used to express personal experiences,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there is not a definite time given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ime expressions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e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e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very often used with this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"/>
          <p:cNvPicPr/>
          <p:nvPr/>
        </p:nvPicPr>
        <p:blipFill>
          <a:blip r:embed="rId1"/>
          <a:stretch/>
        </p:blipFill>
        <p:spPr>
          <a:xfrm>
            <a:off x="5410080" y="3276720"/>
            <a:ext cx="2971800" cy="26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685800" y="4419720"/>
            <a:ext cx="426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have never been to Japan. Have you ever been the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 It is used to express actions that started in the past and continue to the present, the  time period is not finished. We us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i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this meaning. We us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eriods of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i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oi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562720" y="3365640"/>
            <a:ext cx="2057400" cy="120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143000" y="365760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haven’t eaten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ince yesterday morning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am really hung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143000" y="518148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haven’t drunk anything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or two day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 am terribly thir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j0296036[1]"/>
          <p:cNvPicPr/>
          <p:nvPr/>
        </p:nvPicPr>
        <p:blipFill>
          <a:blip r:embed="rId2"/>
          <a:stretch/>
        </p:blipFill>
        <p:spPr>
          <a:xfrm>
            <a:off x="5410080" y="4724280"/>
            <a:ext cx="2438640" cy="175284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push dir="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Contrast between Present Perfect  and Past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use definite expressions with the Past simple tense: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yesterday, last week, … ago etc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le we don’t use definite time expressions with the Present perfect t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ave b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France thre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di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g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w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st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0236582[1]"/>
          <p:cNvPicPr/>
          <p:nvPr/>
        </p:nvPicPr>
        <p:blipFill>
          <a:blip r:embed="rId1"/>
          <a:stretch/>
        </p:blipFill>
        <p:spPr>
          <a:xfrm>
            <a:off x="3003480" y="4952880"/>
            <a:ext cx="1506600" cy="167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j0415144[1]"/>
          <p:cNvPicPr/>
          <p:nvPr/>
        </p:nvPicPr>
        <p:blipFill>
          <a:blip r:embed="rId2"/>
          <a:stretch/>
        </p:blipFill>
        <p:spPr>
          <a:xfrm>
            <a:off x="5133960" y="2971800"/>
            <a:ext cx="248616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split dir="in" orient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5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3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3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3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rald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has bough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 new car. He </a:t>
            </a:r>
            <a:r>
              <a:rPr b="0" i="1" lang="en-US" sz="2800" spc="-1" strike="noStrike">
                <a:solidFill>
                  <a:srgbClr val="ccff66"/>
                </a:solidFill>
                <a:latin typeface="Arial"/>
              </a:rPr>
              <a:t>bough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t wee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Hav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Ray? – Yes, I </a:t>
            </a:r>
            <a:r>
              <a:rPr b="0" i="1" lang="en-US" sz="2800" spc="-1" strike="noStrike">
                <a:solidFill>
                  <a:srgbClr val="ccff66"/>
                </a:solidFill>
                <a:latin typeface="Arial"/>
              </a:rPr>
              <a:t>me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him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en we were studen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 parents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have bee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o India. In fact, they </a:t>
            </a:r>
            <a:r>
              <a:rPr b="0" i="1" lang="en-US" sz="2800" spc="-1" strike="noStrike">
                <a:solidFill>
                  <a:srgbClr val="ccff66"/>
                </a:solidFill>
                <a:latin typeface="Arial"/>
              </a:rPr>
              <a:t>we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ere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t yea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Ha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nybody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phone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e? – Yes, Joyce </a:t>
            </a:r>
            <a:r>
              <a:rPr b="0" i="1" lang="en-US" sz="2800" spc="-1" strike="noStrike">
                <a:solidFill>
                  <a:srgbClr val="ccff66"/>
                </a:solidFill>
                <a:latin typeface="Arial"/>
              </a:rPr>
              <a:t>phone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 hour ag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’v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see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at man before. – Really?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ff66"/>
                </a:solidFill>
                <a:latin typeface="Arial"/>
              </a:rPr>
              <a:t>di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i="1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ff66"/>
                </a:solidFill>
                <a:latin typeface="Arial"/>
              </a:rPr>
              <a:t>se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143000" y="1522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Contrast between Present Perfect  and Past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0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5867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Have you ever listened to classical music before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Where did you hear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609480" y="1676520"/>
            <a:ext cx="624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ve you walked along a riverside similar to the one on the photograp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did you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hecker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21:27:18Z</dcterms:created>
  <dc:creator>Dragana</dc:creator>
  <dc:description/>
  <dc:language>en-US</dc:language>
  <cp:lastModifiedBy>ACADEMIA</cp:lastModifiedBy>
  <dcterms:modified xsi:type="dcterms:W3CDTF">2013-04-02T17:23:48Z</dcterms:modified>
  <cp:revision>25</cp:revision>
  <dc:subject/>
  <dc:title>Present Perfect</dc:title>
</cp:coreProperties>
</file>